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236-10AA-4129-BCC3-6CD9469F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617-0326-40DD-9036-19F1080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2CE-F101-456E-9AB9-35128506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615-1BB7-484D-A7C1-936F1439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81A-3E66-46F0-9966-E77B1C9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FC3-C521-404F-A638-E1A5F5A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83C-19AF-43D5-A183-18705CF9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726-86C8-49F3-9D1B-66C66B1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E96-98F7-440E-88CC-5FF5B727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4C1-44C4-4F4B-BC71-0720A67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740-51B9-4E18-87AF-66C6CEB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5DA-A574-4127-B12A-A10D58D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522-0656-41F1-AF2D-95B25E5F4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60160" y="6248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vise Re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3108240"/>
            <a:ext cx="279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upervise Reassignment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  Supervise Reassignment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ITIONS:  Given a requirement to supervise the reassignment process, AR 600-8-11, AR 614-200, and MILPER Memorandum 95-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nducted an overview of the Enlisted Personnel Assignment System (ED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anaged the processing of an EDAS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Managed requests for deletion and defe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OS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US to OCUNUS and CONUS to C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PORT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DY REPORT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LE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LE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TRAVEL TIME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TRAVEL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TICIPATED  DAT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“DLO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OS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ONUS to CONUS and OCONUS to OC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RO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LE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TRAVE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TDY TRAVE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REPORT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8:13:26Z</dcterms:created>
  <dc:creator>ADG</dc:creator>
  <dc:description/>
  <dc:language>en-US</dc:language>
  <cp:lastModifiedBy>Administrator</cp:lastModifiedBy>
  <cp:lastPrinted>1998-06-04T15:42:32Z</cp:lastPrinted>
  <dcterms:modified xsi:type="dcterms:W3CDTF">2005-07-08T12:32:22Z</dcterms:modified>
  <cp:revision>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